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B65B-FA84-4548-8D1E-CD54231A9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DA49-8687-40EB-9FA6-2B749DB5B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93B5-64DE-4A08-932E-299D35EC7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C8EA-A454-42BB-AD0A-3F1AC17B9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0AB1-C720-42DE-ACA5-5852343A3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BEAF-A8A7-4B34-B169-E894F4675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901A-DA74-4A8A-A701-170EBF7C2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C2B6-3836-4AD8-88FC-71BDE3204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2CB0-79B3-4016-A8E2-4BCB6C1F1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EE2A-733F-45AD-90A2-52A7ED0DA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B978-9062-4BC0-9DB9-A15B99EB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F4DD-2EC1-4CD4-879A-0554290D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1F7B5-DFEE-4C69-ABA4-68D9BE8FB0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Times New Roman"/>
              </a:rPr>
              <a:t>Henry’s Liber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ory by Ben Dickens, Dave Moman, and Zac End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night-sk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" descr="henry-david-thoreau"/>
          <p:cNvPicPr/>
          <p:nvPr/>
        </p:nvPicPr>
        <p:blipFill>
          <a:blip r:embed="rId1"/>
          <a:stretch/>
        </p:blipFill>
        <p:spPr>
          <a:xfrm>
            <a:off x="1905120" y="-76320"/>
            <a:ext cx="562752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Works C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lcatraz.”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Visiting DC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. N.p., n.d. Web. 17 Mar. 2010. &lt;http://www.visitingdc.com/‌images/‌alcatraz-prison-picture-3.jpg&gt;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ingerbread House.”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Extraordinary Moms Network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. N.p., n.d. Web. 17 Mar. 2010. &lt;http://extraordinarymomsnetwork.files.wordpress.com/‌2009/‌11/‌gingerbread-house.jpg&gt;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enry David Thoreau.”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1902 Encyclopedia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. N.p., n.d. Web. 17 Mar. 2010. &lt;http://www.1902encyclopedia.com/‌T/‌THO/‌henry-david-thoreau.jpg&gt;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ASA MULLING SATURN-LIKE RINGS FOR EARTH.”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Scrape TV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. N.p., n.d. Web. 18 Mar. 2010. &lt;http://scrapetv.com/‌News/‌News%20Pages/‌Science/‌images-2/‌night-sky.jpg&gt;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tay Puft Marshallow Man.”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Llama Butcher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. N.p., n.d. Web. 17 Mar. 2010. &lt;http://llamabutchers.mu.nu/‌archives/‌hugo%20chavez%20staypuft%20marshmallow%20man.jpg&gt;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oreau on the Importance of Cultivating Vegetables.”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Harpers Magazin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. N.p., n.d. Web. 17 Mar. 2010. &lt;http://www.harpers.org/‌media/‌image/‌blogs/‌misc/‌henry_david_thoreau2.bmp&gt;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0" descr="hugo%20chavez%20staypuft%20marshmallow%20man"/>
          <p:cNvPicPr/>
          <p:nvPr/>
        </p:nvPicPr>
        <p:blipFill>
          <a:blip r:embed="rId1"/>
          <a:stretch/>
        </p:blipFill>
        <p:spPr>
          <a:xfrm>
            <a:off x="2133720" y="0"/>
            <a:ext cx="5143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henry-david-thoreau"/>
          <p:cNvPicPr/>
          <p:nvPr/>
        </p:nvPicPr>
        <p:blipFill>
          <a:blip r:embed="rId1"/>
          <a:stretch/>
        </p:blipFill>
        <p:spPr>
          <a:xfrm>
            <a:off x="1905120" y="0"/>
            <a:ext cx="5564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gingerbread-house"/>
          <p:cNvPicPr/>
          <p:nvPr/>
        </p:nvPicPr>
        <p:blipFill>
          <a:blip r:embed="rId1"/>
          <a:stretch/>
        </p:blipFill>
        <p:spPr>
          <a:xfrm>
            <a:off x="1066680" y="0"/>
            <a:ext cx="7086600" cy="70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hugo%20chavez%20staypuft%20marshmallow%20man"/>
          <p:cNvPicPr/>
          <p:nvPr/>
        </p:nvPicPr>
        <p:blipFill>
          <a:blip r:embed="rId1"/>
          <a:stretch/>
        </p:blipFill>
        <p:spPr>
          <a:xfrm>
            <a:off x="4419720" y="0"/>
            <a:ext cx="525780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henry_david_thoreau2"/>
          <p:cNvPicPr/>
          <p:nvPr/>
        </p:nvPicPr>
        <p:blipFill>
          <a:blip r:embed="rId1"/>
          <a:stretch/>
        </p:blipFill>
        <p:spPr>
          <a:xfrm>
            <a:off x="-228600" y="0"/>
            <a:ext cx="4724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hugo%20chavez%20staypuft%20marshmallow%20man"/>
          <p:cNvPicPr/>
          <p:nvPr/>
        </p:nvPicPr>
        <p:blipFill>
          <a:blip r:embed="rId1"/>
          <a:stretch/>
        </p:blipFill>
        <p:spPr>
          <a:xfrm>
            <a:off x="4572000" y="0"/>
            <a:ext cx="51436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henry_david_thoreau2"/>
          <p:cNvPicPr/>
          <p:nvPr/>
        </p:nvPicPr>
        <p:blipFill>
          <a:blip r:embed="rId1"/>
          <a:stretch/>
        </p:blipFill>
        <p:spPr>
          <a:xfrm>
            <a:off x="-304920" y="0"/>
            <a:ext cx="474516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alcatraz-prison-picture-3"/>
          <p:cNvPicPr/>
          <p:nvPr/>
        </p:nvPicPr>
        <p:blipFill>
          <a:blip r:embed="rId1"/>
          <a:stretch/>
        </p:blipFill>
        <p:spPr>
          <a:xfrm>
            <a:off x="-152280" y="304920"/>
            <a:ext cx="9448560" cy="62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8T09:51:42Z</dcterms:created>
  <dc:creator>Ben</dc:creator>
  <dc:description/>
  <dc:language>en-US</dc:language>
  <cp:lastModifiedBy>0000288hss</cp:lastModifiedBy>
  <dcterms:modified xsi:type="dcterms:W3CDTF">2010-03-18T11:27:46Z</dcterms:modified>
  <cp:revision>5</cp:revision>
  <dc:subject/>
  <dc:title>Henry’s Liberation</dc:title>
</cp:coreProperties>
</file>